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F42-A516-453F-B776-779CEC92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3C5-9F69-4B59-A71D-7D767809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26D-E698-4EDC-BACB-E34BAE20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058-AF5D-4A54-BBAB-09426105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290-7400-44EB-9B9C-98631FEA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0A9-872F-4AF5-A9AD-4AE1F324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745-D2E2-4BE7-BAC5-8F9FB2D0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D7E-BD6F-469A-AB92-CD4325DC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260-DF69-4934-BC0E-0BB8C79A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52E-1BD2-4362-94C0-C519E834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FF2-4851-4E01-82FC-D0F0B6D5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D4DE-1C9A-4F2F-838B-66CE99AC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2169-7874-425C-9B23-7FD44DD686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3366ff"/>
                </a:solidFill>
                <a:uFillTx/>
                <a:latin typeface="Rockwell Extra Bold"/>
              </a:rPr>
              <a:t>Invisible Child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pperplate Gothic Light"/>
              </a:rPr>
              <a:t>Please relax and enjoy the PowerPoint about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r>
              <a:rPr b="1" i="1" lang="en-US" sz="3200" spc="-1" strike="noStrike" u="sng">
                <a:solidFill>
                  <a:srgbClr val="3366ff"/>
                </a:solidFill>
                <a:uFillTx/>
                <a:latin typeface="Copperplate Gothic Light"/>
              </a:rPr>
              <a:t>Invisible Childr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40006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00ff"/>
                </a:solidFill>
                <a:uFillTx/>
                <a:latin typeface="Tempus Sans ITC"/>
              </a:rPr>
              <a:t>What Is Invisible Childr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66ff"/>
                </a:solidFill>
                <a:uFillTx/>
                <a:latin typeface="Verdana"/>
              </a:rPr>
              <a:t>Invisible Childre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cc00"/>
                </a:solidFill>
                <a:latin typeface="Verdana"/>
              </a:rPr>
              <a:t>is a charity for children in Ugand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Verdana"/>
              </a:rPr>
              <a:t>This charity tries to stop sending the children to w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Verdana"/>
              </a:rPr>
              <a:t>There are many celebrities going to Uganda and trying to raise mone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66"/>
                </a:solidFill>
                <a:uFillTx/>
                <a:latin typeface="Tahoma"/>
              </a:rPr>
              <a:t>Why Should You Chose This Char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Palatino Linotype"/>
              </a:rPr>
              <a:t>You should adopt this charity 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1. This charity will be new to the schoo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Palatino Linotype"/>
              </a:rPr>
              <a:t>2. The children will have a better education because the money you donate/raise will go straight to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3. The children will also lead a better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Palatino Linotype"/>
              </a:rPr>
              <a:t>4. Hopefully, it might stop the w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4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4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4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4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4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4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4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4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4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4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4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4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4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4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4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4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4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4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4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4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 Raff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 Boot Sa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 Music Concer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 Guess How Many Sweets In A J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 Sponsored Ru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 Sponsored Wal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 Sponsored Sile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Making Badg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Making Card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nd Many More….But We’re Running Out Of Time To Put Them </a:t>
            </a:r>
            <a:r>
              <a:rPr b="1" i="1" lang="en-US" sz="2000" spc="-1" strike="noStrike" u="sng">
                <a:solidFill>
                  <a:srgbClr val="ff0066"/>
                </a:solidFill>
                <a:uFillTx/>
                <a:latin typeface="Verdana"/>
              </a:rPr>
              <a:t>ALL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cc66ff"/>
                </a:solidFill>
                <a:uFillTx/>
                <a:latin typeface="Vivaldi"/>
              </a:rPr>
              <a:t>Our Suggested Fundraising Ideas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Tahoma"/>
              </a:rPr>
              <a:t>How Will We Show Our Commitment For The Next Five Yea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Kartika"/>
              </a:rPr>
              <a:t>We will show our commitment by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Karti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Kartika"/>
              </a:rPr>
              <a:t>Keeping you updated on any chang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Karti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Kartika"/>
              </a:rPr>
              <a:t>Telling you when the new events are o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Karti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Kartika"/>
              </a:rPr>
              <a:t>Making sure we keep you updated on how much you raise through out </a:t>
            </a:r>
            <a:r>
              <a:rPr b="1" i="1" lang="en-GB" sz="3600" spc="-1" strike="noStrike" u="sng">
                <a:solidFill>
                  <a:srgbClr val="ff0000"/>
                </a:solidFill>
                <a:uFillTx/>
                <a:latin typeface="Kartika"/>
              </a:rPr>
              <a:t>5 year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Karti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Kartika"/>
              </a:rPr>
              <a:t>Being there </a:t>
            </a:r>
            <a:r>
              <a:rPr b="1" i="1" lang="en-GB" sz="3600" spc="-1" strike="noStrike" u="sng">
                <a:solidFill>
                  <a:srgbClr val="ff0000"/>
                </a:solidFill>
                <a:uFillTx/>
                <a:latin typeface="Kartika"/>
              </a:rPr>
              <a:t>100%</a:t>
            </a:r>
            <a:r>
              <a:rPr b="0" lang="en-GB" sz="3600" spc="-1" strike="noStrike">
                <a:solidFill>
                  <a:srgbClr val="ff0000"/>
                </a:solidFill>
                <a:latin typeface="Kartika"/>
              </a:rPr>
              <a:t>  for any questions to be ask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Thank you for watching our PowerPoint about </a:t>
            </a:r>
            <a:r>
              <a:rPr b="1" i="1" lang="en-US" sz="2800" spc="-1" strike="noStrike" u="sng">
                <a:solidFill>
                  <a:srgbClr val="ff99ff"/>
                </a:solidFill>
                <a:uFillTx/>
                <a:latin typeface="Comic Sans MS"/>
              </a:rPr>
              <a:t>Invisible Childr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Also many thanks to Mrs Boardman for letting us use her whiteboard! And for her trying to make our floppy disk work yesterda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We hope you will consider choosing our </a:t>
            </a:r>
            <a:r>
              <a:rPr b="1" i="1" lang="en-US" sz="2800" spc="-1" strike="noStrike" u="sng">
                <a:solidFill>
                  <a:srgbClr val="ff99ff"/>
                </a:solidFill>
                <a:uFillTx/>
                <a:latin typeface="Comic Sans MS"/>
              </a:rPr>
              <a:t>awesome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ch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11:36Z</dcterms:created>
  <dc:creator>Carys</dc:creator>
  <dc:description/>
  <dc:language>en-US</dc:language>
  <cp:lastModifiedBy>nb</cp:lastModifiedBy>
  <dcterms:modified xsi:type="dcterms:W3CDTF">2007-12-06T08:50:26Z</dcterms:modified>
  <cp:revision>4</cp:revision>
  <dc:subject/>
  <dc:title>Invisible Children</dc:title>
</cp:coreProperties>
</file>